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5.png" ContentType="image/png"/>
  <Override PartName="/ppt/media/image8.jpeg" ContentType="image/jpeg"/>
  <Override PartName="/ppt/media/image22.png" ContentType="image/png"/>
  <Override PartName="/ppt/media/image21.wmf" ContentType="image/x-wmf"/>
  <Override PartName="/ppt/media/image19.gif" ContentType="image/gif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7.jpeg" ContentType="image/jpeg"/>
  <Override PartName="/ppt/media/image14.png" ContentType="image/png"/>
  <Override PartName="/ppt/media/image16.gif" ContentType="image/gif"/>
  <Override PartName="/ppt/media/image1.wmf" ContentType="image/x-wmf"/>
  <Override PartName="/ppt/media/image1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884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012920" y="0"/>
            <a:ext cx="3071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201320" y="704520"/>
            <a:ext cx="4684680" cy="351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1"/>
          </p:nvPr>
        </p:nvSpPr>
        <p:spPr>
          <a:xfrm>
            <a:off x="-36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2"/>
          </p:nvPr>
        </p:nvSpPr>
        <p:spPr>
          <a:xfrm>
            <a:off x="4012920" y="8903880"/>
            <a:ext cx="3071880" cy="4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9AC-75E8-4DBC-969C-693D4612611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 - Hogs and lo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a look at the Teacher C popsicle stick activity, did you need the other members of your group to complete the tas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have to do something by yourself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everyone have the same amount of work to do?  Yes, all had to put 3 popsicle sticks dow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25% were working at once instead of Teacher A calling on student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…we demonstrate…Christi st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…we demonstrate…Christi sta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703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013280" y="8904240"/>
            <a:ext cx="3071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CC63-34F7-4132-84EF-A5B6023A31D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3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01680" y="70488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9200" y="4451400"/>
            <a:ext cx="566748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06C-2248-444B-8DE2-54E1492C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B7F-F19B-4409-ABC6-9F7BFBF2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0B4-3161-4B0C-9B28-AEA4B000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FD2-751E-4DE8-81ED-0657A1B5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D667-9442-4D06-997B-C8CCBC2D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361B-EA9C-4BC3-9F9F-B1650F06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2F59-77AF-4DA3-A8E6-919AFCB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7F9B-D4F8-4403-9BF2-4A23550F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3E02-AC47-42D0-BCFA-0E0CF4C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29D8-6E02-4801-9BE1-B7600E8D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B14C-CD7A-4F26-893F-359B5B0B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ED3-B6AD-4B94-9DD8-42A60D3B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1DF6-A59E-4830-BAF2-0E0BF97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5421-14D7-4A0D-9ECE-F6C0E125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4A55-356C-4964-BE9F-A2383A8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A000-5649-4042-BF47-063B5CB4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2433-CB37-403E-AD0D-8878E65C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A426-B1FB-4115-9A15-3B5B08D9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E490-5036-4D74-BC96-920AB0B9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DFBCE-6064-4884-AB42-C8700209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05D4-CFBF-4200-96AF-10CA629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6496-AEAC-4F85-ABBA-B33CA55F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B50-338D-4089-935D-30721B3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FF45-2F57-4B9A-A102-48492E1A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F138-2001-4E67-AD22-CC97BDA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5A5D-B61C-434A-B2E9-528FCCC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DB39-C1A8-45CF-9456-F9DF31F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5FE9-67B9-404B-B7B8-71035750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758A9-5616-4483-B389-AB799822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2AE9-98B2-4C63-8136-122EDB02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B55A-8FDF-4EDD-A52D-016301EA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244-A6B8-4936-A762-FE4E95A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FE0-94F7-4BBE-8F93-0BAF9548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BF0-5CBA-40C3-9E7B-2D68D31F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3252-DACE-4792-B934-DC1EEAB6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7BF-4B68-4083-AFD0-C1FC516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BFE-E751-4C34-AD52-741A868898F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B59F-81CC-47FB-950A-01CE52AB1D5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2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19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22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f8f8f8"/>
                </a:buClr>
                <a:buFont typeface="Comic Sans MS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5994-D6A7-4A2A-9649-F4466724EDC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Qt_tzxZuBFO8LM&amp;tbnid=00KEjR5OMX55_M:&amp;ved=0CAUQjRw&amp;url=http%3A%2F%2Fblogs.globeuniversity.edu%2F2012%2F07%2F10%2Funlocking-the-key-to-teamwork%2F&amp;ei=iMhQUsC8J7bK4AOs5IHQCQ&amp;bvm=bv.53537100,d.dmg&amp;psig=AFQjCNGlr-vw0BdMQoXf_YgV_mbMzf_7JA&amp;ust=1381112286721450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SSdeE41GSJvT6M&amp;tbnid=hDSzF5NSYn_HDM:&amp;ved=0CAUQjRw&amp;url=http%3A%2F%2Fbestclipartblog.com%2F17-ghost-clipart.html&amp;ei=28lQUoPpDPKs4AOO-IHQCA&amp;bvm=bv.53537100,d.dmg&amp;psig=AFQjCNELuUgrcArqQmJJjbchQuvBO_LNKg&amp;ust=1381112604841842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frm=1&amp;source=images&amp;cd=&amp;cad=rja&amp;docid=CX-CIQctuLw1zM&amp;tbnid=PEHux4xrJ1F4vM:&amp;ved=0CAUQjRw&amp;url=http%3A%2F%2Fwww.planhillsborough.org%2Fleaders-work-together-to-tackle-key-issues%2F&amp;ei=y8pQUpvcMIXG4APFh4DQDA&amp;bvm=bv.53537100,d.dmg&amp;psig=AFQjCNEEARtvp7hsnGu3qpv8tZHItXoExQ&amp;ust=138111285597705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0"/>
            <a:ext cx="9067680" cy="88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Cooperative Learning ~ The Real Deal</a:t>
            </a:r>
            <a:endParaRPr b="1" lang="en-US" sz="5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Ideas to Have Even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omic Sans MS"/>
              </a:rPr>
              <a:t>More Students Engaged!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28600" y="5181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llison Smerka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1814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Christi Pagano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5" descr="00361040"/>
          <p:cNvPicPr/>
          <p:nvPr/>
        </p:nvPicPr>
        <p:blipFill>
          <a:blip r:embed="rId1"/>
          <a:stretch/>
        </p:blipFill>
        <p:spPr>
          <a:xfrm>
            <a:off x="2666880" y="4800600"/>
            <a:ext cx="1414440" cy="1600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00198380"/>
          <p:cNvPicPr/>
          <p:nvPr/>
        </p:nvPicPr>
        <p:blipFill>
          <a:blip r:embed="rId2"/>
          <a:stretch/>
        </p:blipFill>
        <p:spPr>
          <a:xfrm>
            <a:off x="4952880" y="4800600"/>
            <a:ext cx="1224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B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a question 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gives projec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says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as a team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elp each o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 “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ork on it together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7" name="Picture 9" descr="groupwork"/>
          <p:cNvPicPr/>
          <p:nvPr/>
        </p:nvPicPr>
        <p:blipFill>
          <a:blip r:embed="rId1"/>
          <a:stretch/>
        </p:blipFill>
        <p:spPr>
          <a:xfrm>
            <a:off x="3429000" y="1447920"/>
            <a:ext cx="51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C 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500" spc="-1" strike="noStrike">
                <a:solidFill>
                  <a:srgbClr val="f8f8f8"/>
                </a:solidFill>
                <a:latin typeface="Comic Sans MS"/>
              </a:rPr>
              <a:t>Student-to-student structured interaction</a:t>
            </a: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341280" y="-4269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3" name="Picture 15" descr="working-together-lumix-art"/>
          <p:cNvPicPr/>
          <p:nvPr/>
        </p:nvPicPr>
        <p:blipFill>
          <a:blip r:embed="rId1"/>
          <a:stretch/>
        </p:blipFill>
        <p:spPr>
          <a:xfrm>
            <a:off x="5334120" y="28195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ff"/>
                </a:solidFill>
                <a:latin typeface="Comic Sans MS"/>
              </a:rPr>
              <a:t>P ositive Interdependence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Comic Sans MS"/>
              </a:rPr>
              <a:t>I ndividual Accountability 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 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33"/>
                </a:solidFill>
                <a:latin typeface="Comic Sans MS"/>
              </a:rPr>
              <a:t>S imultaneous Interac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0880" y="533520"/>
            <a:ext cx="853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ffff"/>
                </a:solidFill>
                <a:latin typeface="Comic Sans MS"/>
              </a:rPr>
              <a:t>Kagan’s Cooperative Learning</a:t>
            </a:r>
            <a:endParaRPr b="1" lang="en-US" sz="4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6" name="Picture 4" descr="MC900240217[1]"/>
          <p:cNvPicPr/>
          <p:nvPr/>
        </p:nvPicPr>
        <p:blipFill>
          <a:blip r:embed="rId1"/>
          <a:stretch/>
        </p:blipFill>
        <p:spPr>
          <a:xfrm>
            <a:off x="4038480" y="5105520"/>
            <a:ext cx="144792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90720" y="1523520"/>
            <a:ext cx="7315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help necessary to complete work?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85800" y="1219320"/>
            <a:ext cx="80773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Positive </a:t>
            </a:r>
            <a:br>
              <a:rPr sz="5400"/>
            </a:br>
            <a:r>
              <a:rPr b="1" lang="en-US" sz="5400" spc="-1" strike="noStrike">
                <a:solidFill>
                  <a:srgbClr val="cc99ff"/>
                </a:solidFill>
                <a:latin typeface="Comic Sans MS"/>
              </a:rPr>
              <a:t>Interdependence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29" name="Picture 7" descr="27-teamwor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3124080"/>
            <a:ext cx="58676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914400" y="12952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s individual public performance required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85800" y="1219320"/>
            <a:ext cx="7924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99"/>
                </a:solidFill>
                <a:latin typeface="Comic Sans MS"/>
              </a:rPr>
              <a:t>Individual Accountability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2" name="Picture 7" descr="ghost-clipart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505320"/>
            <a:ext cx="22748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5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5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59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914400" y="533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Comic Sans MS"/>
              </a:rPr>
              <a:t>Equal Participation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w equal is the participation?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34" name="Picture 10" descr="PieChart_Cooper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362320"/>
            <a:ext cx="42674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What percent of students are overtly active at once?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28600" y="121932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33"/>
                </a:solidFill>
                <a:latin typeface="Comic Sans MS"/>
              </a:rPr>
              <a:t>Simultaneous Interaction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7" name="Picture 5" descr="om_st_nht"/>
          <p:cNvPicPr/>
          <p:nvPr/>
        </p:nvPicPr>
        <p:blipFill>
          <a:blip r:embed="rId1"/>
          <a:stretch/>
        </p:blipFill>
        <p:spPr>
          <a:xfrm>
            <a:off x="1371600" y="3352680"/>
            <a:ext cx="5867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Quiz-Quiz-Trade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6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914400" y="1981080"/>
            <a:ext cx="746748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 quizzes a partn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 gets praised or coached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 gets quizzed by his/her partn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s switch card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Look for “drive-bys”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477120" y="3809880"/>
            <a:ext cx="1603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“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Great job!</a:t>
            </a:r>
            <a:r>
              <a:rPr b="1" lang="en-US" sz="6500" spc="-1" strike="noStrike">
                <a:solidFill>
                  <a:srgbClr val="00ffff"/>
                </a:solidFill>
                <a:latin typeface="Tahoma"/>
              </a:rPr>
              <a:t>”</a:t>
            </a: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 Phrases 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6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762120" y="2743200"/>
            <a:ext cx="77724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Honk honk!  Good job good buddy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You’re </a:t>
            </a:r>
            <a:r>
              <a:rPr b="1" i="1" lang="en-US" sz="3400" spc="-1" strike="noStrike">
                <a:solidFill>
                  <a:srgbClr val="f8f8f8"/>
                </a:solidFill>
                <a:latin typeface="Comic Sans MS"/>
              </a:rPr>
              <a:t>grate grate grate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Sparkle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126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lang="en-US" sz="3400" spc="-1" strike="noStrike">
                <a:solidFill>
                  <a:srgbClr val="f8f8f8"/>
                </a:solidFill>
                <a:latin typeface="Comic Sans MS"/>
              </a:rPr>
              <a:t>¡Buen trabajo!”</a:t>
            </a:r>
            <a:endParaRPr b="1" lang="en-US" sz="3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1216080" cy="1398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7086600" y="5029200"/>
            <a:ext cx="13222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152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ffff"/>
                </a:solidFill>
                <a:latin typeface="Comic Sans MS"/>
              </a:rPr>
              <a:t>Grudgeball</a:t>
            </a:r>
            <a:endParaRPr b="0" lang="en-US" sz="7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(Created by Kara Wilkins…not in packet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828800"/>
            <a:ext cx="77724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tudents are broken up into tea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ach team begins with 10 point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ALL</a:t>
            </a: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 students talk within their groups to come up with an answer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Teacher rolls the dic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174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If group is correct, they take 2 points (or 4 or 5) off of other teams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086600" y="2438280"/>
            <a:ext cx="152388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Discuss the reasoning behind using Cooperative Learn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Understand at least 3 different Cooperative Learning structur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Brainstorm ideas on how you can use various Cooperative Learning structures in your class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762120" y="533520"/>
            <a:ext cx="78483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19080">
                  <a:solidFill>
                    <a:srgbClr val="f8f8f8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9881b1"/>
                    </a:gs>
                  </a:gsLst>
                  <a:lin ang="5400000"/>
                </a:gradFill>
                <a:latin typeface="Arial Black"/>
              </a:rPr>
              <a:t>Session Objectives</a:t>
            </a:r>
            <a:endParaRPr b="1" lang="en-US" sz="4900" spc="1" strike="noStrike">
              <a:ln w="19080">
                <a:solidFill>
                  <a:srgbClr val="f8f8f8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9881b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79" name="Picture 5" descr="MC900299691[1]"/>
          <p:cNvPicPr/>
          <p:nvPr/>
        </p:nvPicPr>
        <p:blipFill>
          <a:blip r:embed="rId1"/>
          <a:stretch/>
        </p:blipFill>
        <p:spPr>
          <a:xfrm>
            <a:off x="6400800" y="4648320"/>
            <a:ext cx="22860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914400" y="456480"/>
            <a:ext cx="76550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Talking Chips</a:t>
            </a:r>
            <a:endParaRPr b="1" lang="en-US" sz="6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7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295280" y="2057400"/>
            <a:ext cx="70106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2001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2 chips per studen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001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Free flow of idea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2001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Comic Sans MS"/>
              </a:rPr>
              <a:t>DISCUSS: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  What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SUPER POWERS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 would you like to have?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Picture 4" descr="MC900232247[1]"/>
          <p:cNvPicPr/>
          <p:nvPr/>
        </p:nvPicPr>
        <p:blipFill>
          <a:blip r:embed="rId1"/>
          <a:stretch/>
        </p:blipFill>
        <p:spPr>
          <a:xfrm>
            <a:off x="5867280" y="4572000"/>
            <a:ext cx="24386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ee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14040" y="53352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omic Sans MS"/>
              </a:rPr>
              <a:t>Silly Sport:  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Comic Sans MS"/>
              </a:rPr>
              <a:t>Freeze Tag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243360" indent="0" algn="ctr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90720" y="259092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3" name="Picture 8" descr="Name:  Frozen-frozen-freeze-winter-smiley-emoticon-000590-large.gif&#10;Views: 1643&#10;Size:  13.4 KB"/>
          <p:cNvPicPr/>
          <p:nvPr/>
        </p:nvPicPr>
        <p:blipFill>
          <a:blip r:embed="rId1"/>
          <a:stretch/>
        </p:blipFill>
        <p:spPr>
          <a:xfrm>
            <a:off x="1981080" y="2743200"/>
            <a:ext cx="5029200" cy="29559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6400800" y="3808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Comic Sans MS"/>
                <a:ea typeface="Arial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  <a:ea typeface="Arial"/>
              </a:rPr>
              <a:t>(Page 16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9"/>
          <p:cNvSpPr/>
          <p:nvPr/>
        </p:nvSpPr>
        <p:spPr>
          <a:xfrm>
            <a:off x="3429000" y="2362320"/>
            <a:ext cx="3200400" cy="297180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294920" y="5335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ffff"/>
                </a:solidFill>
                <a:latin typeface="Comic Sans MS"/>
              </a:rPr>
              <a:t>Snowball War</a:t>
            </a:r>
            <a:endParaRPr b="0" lang="en-US" sz="59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2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0" y="2209680"/>
            <a:ext cx="746748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ach student creates a 5 question quiz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the answers on the back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ve a “snowball war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ck up the nearest “snowball”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rite answers on the fron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heck answers with the back</a:t>
            </a:r>
            <a:r>
              <a:rPr b="1" lang="en-US" sz="24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2500"/>
              </a:spcBef>
              <a:buClr>
                <a:srgbClr val="f8f8f8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" name="Picture 6" descr="MC900357169[1]"/>
          <p:cNvPicPr/>
          <p:nvPr/>
        </p:nvPicPr>
        <p:blipFill>
          <a:blip r:embed="rId1"/>
          <a:stretch/>
        </p:blipFill>
        <p:spPr>
          <a:xfrm>
            <a:off x="457200" y="2743200"/>
            <a:ext cx="17524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4"/>
          <p:cNvSpPr txBox="1"/>
          <p:nvPr/>
        </p:nvSpPr>
        <p:spPr>
          <a:xfrm>
            <a:off x="762120" y="2057400"/>
            <a:ext cx="78483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What have you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learned 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today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447920" y="457200"/>
            <a:ext cx="6400800" cy="14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RoundRobin </a:t>
            </a:r>
            <a:endParaRPr b="1" lang="en-US" sz="65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15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" name="Picture 11" descr="MC900282178[1]"/>
          <p:cNvPicPr/>
          <p:nvPr/>
        </p:nvPicPr>
        <p:blipFill>
          <a:blip r:embed="rId1"/>
          <a:stretch/>
        </p:blipFill>
        <p:spPr>
          <a:xfrm>
            <a:off x="3767040" y="4572000"/>
            <a:ext cx="1546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"/>
          <p:cNvPicPr/>
          <p:nvPr/>
        </p:nvPicPr>
        <p:blipFill>
          <a:blip r:embed="rId1"/>
          <a:srcRect l="23134" t="34557" r="47850" b="23038"/>
          <a:stretch/>
        </p:blipFill>
        <p:spPr>
          <a:xfrm>
            <a:off x="990720" y="380880"/>
            <a:ext cx="7126200" cy="60962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3352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Thank you for 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ffff"/>
                </a:solidFill>
                <a:latin typeface="Comic Sans MS"/>
              </a:rPr>
              <a:t>joining us!</a:t>
            </a: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65" name="Picture 3" descr="j0078766"/>
          <p:cNvPicPr/>
          <p:nvPr/>
        </p:nvPicPr>
        <p:blipFill>
          <a:blip r:embed="rId1"/>
          <a:stretch/>
        </p:blipFill>
        <p:spPr>
          <a:xfrm>
            <a:off x="3200400" y="3581280"/>
            <a:ext cx="2819520" cy="2770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5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123" descr="MC900060316[1]"/>
          <p:cNvPicPr/>
          <p:nvPr/>
        </p:nvPicPr>
        <p:blipFill>
          <a:blip r:embed="rId1"/>
          <a:stretch/>
        </p:blipFill>
        <p:spPr>
          <a:xfrm>
            <a:off x="2286000" y="457200"/>
            <a:ext cx="4950000" cy="5791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WordArt 2122"/>
          <p:cNvSpPr txBox="1"/>
          <p:nvPr/>
        </p:nvSpPr>
        <p:spPr>
          <a:xfrm>
            <a:off x="990720" y="1066680"/>
            <a:ext cx="693396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442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Quiet Signal</a:t>
            </a:r>
            <a:endParaRPr b="1" lang="en-US" sz="4900" spc="1" strike="noStrike">
              <a:ln w="442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6781680" y="228600"/>
            <a:ext cx="236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1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240" y="77760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5" name="WordArt 2122"/>
          <p:cNvSpPr txBox="1"/>
          <p:nvPr/>
        </p:nvSpPr>
        <p:spPr>
          <a:xfrm>
            <a:off x="457200" y="762120"/>
            <a:ext cx="8288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Based on previous experiences,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how would you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describe 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Cooperative Learning?</a:t>
            </a:r>
            <a:endParaRPr b="1" lang="en-US" sz="49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6324480" y="152280"/>
            <a:ext cx="32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3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Picture 6" descr="MC900431560[1]"/>
          <p:cNvPicPr/>
          <p:nvPr/>
        </p:nvPicPr>
        <p:blipFill>
          <a:blip r:embed="rId1"/>
          <a:stretch/>
        </p:blipFill>
        <p:spPr>
          <a:xfrm>
            <a:off x="3657600" y="3962520"/>
            <a:ext cx="24382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ffff"/>
                </a:solidFill>
                <a:latin typeface="Comic Sans MS"/>
              </a:rPr>
              <a:t>Forming Groups</a:t>
            </a:r>
            <a:endParaRPr b="0" lang="en-US" sz="6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4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20120" y="358128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Face 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7619760" y="3047760"/>
            <a:ext cx="1066680" cy="314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696080" y="4267080"/>
            <a:ext cx="990720" cy="34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05320" y="5715000"/>
            <a:ext cx="236196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0">
                  <a:solidFill>
                    <a:srgbClr val="000000"/>
                  </a:solidFill>
                </a:ln>
                <a:solidFill>
                  <a:srgbClr val="000000"/>
                </a:solidFill>
                <a:latin typeface="Arial"/>
              </a:rPr>
              <a:t>Shoulder Partner</a:t>
            </a:r>
            <a:endParaRPr b="1" lang="en-US" sz="900" spc="1" strike="noStrike">
              <a:ln w="0">
                <a:solidFill>
                  <a:srgbClr val="000000"/>
                </a:solidFill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5288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429000" y="5334120"/>
            <a:ext cx="914400" cy="264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38160" y="22003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828800" y="2286000"/>
          <a:ext cx="5715000" cy="2895480"/>
        </p:xfrm>
        <a:graphic>
          <a:graphicData uri="http://schemas.openxmlformats.org/drawingml/2006/table">
            <a:tbl>
              <a:tblPr/>
              <a:tblGrid>
                <a:gridCol w="2849400"/>
                <a:gridCol w="286560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High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 Medium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Low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DSC03530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2122"/>
          <p:cNvSpPr txBox="1"/>
          <p:nvPr/>
        </p:nvSpPr>
        <p:spPr>
          <a:xfrm>
            <a:off x="609480" y="2057400"/>
            <a:ext cx="8001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442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9933ff"/>
                    </a:gs>
                  </a:gsLst>
                  <a:lin ang="5400000"/>
                </a:gradFill>
                <a:latin typeface="Arial Black"/>
              </a:rPr>
              <a:t>TRIANGLE</a:t>
            </a:r>
            <a:endParaRPr b="1" lang="en-US" sz="4900" spc="1" strike="noStrike">
              <a:ln w="442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9933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6324480" y="228600"/>
            <a:ext cx="3276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2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AutoShape 6"/>
          <p:cNvSpPr/>
          <p:nvPr/>
        </p:nvSpPr>
        <p:spPr>
          <a:xfrm rot="1468800">
            <a:off x="3123720" y="4343400"/>
            <a:ext cx="2895840" cy="1523880"/>
          </a:xfrm>
          <a:prstGeom prst="triangle">
            <a:avLst>
              <a:gd name="adj" fmla="val 100000"/>
            </a:avLst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AutoShape 7"/>
          <p:cNvSpPr/>
          <p:nvPr/>
        </p:nvSpPr>
        <p:spPr>
          <a:xfrm rot="1296600">
            <a:off x="761760" y="1143000"/>
            <a:ext cx="2057400" cy="1066680"/>
          </a:xfrm>
          <a:prstGeom prst="rtTriangl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AutoShape 8"/>
          <p:cNvSpPr/>
          <p:nvPr/>
        </p:nvSpPr>
        <p:spPr>
          <a:xfrm rot="20978400">
            <a:off x="3733920" y="533160"/>
            <a:ext cx="2666880" cy="1676160"/>
          </a:xfrm>
          <a:prstGeom prst="triangle">
            <a:avLst>
              <a:gd name="adj" fmla="val 40000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3"/>
          <p:cNvSpPr/>
          <p:nvPr/>
        </p:nvSpPr>
        <p:spPr>
          <a:xfrm>
            <a:off x="533520" y="533520"/>
            <a:ext cx="7772400" cy="5638680"/>
          </a:xfrm>
          <a:prstGeom prst="triangle">
            <a:avLst>
              <a:gd name="adj" fmla="val 5323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8153280" y="457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3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207" name="WordArt 5"/>
          <p:cNvSpPr txBox="1"/>
          <p:nvPr/>
        </p:nvSpPr>
        <p:spPr>
          <a:xfrm>
            <a:off x="457200" y="457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Arial Black"/>
              </a:rPr>
              <a:t>2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Arial Black"/>
              <a:ea typeface="Arial Black"/>
            </a:endParaRPr>
          </a:p>
        </p:txBody>
      </p:sp>
      <p:sp>
        <p:nvSpPr>
          <p:cNvPr id="208" name="Line 6"/>
          <p:cNvSpPr/>
          <p:nvPr/>
        </p:nvSpPr>
        <p:spPr>
          <a:xfrm flipH="1">
            <a:off x="2361960" y="3657600"/>
            <a:ext cx="42670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4343400" y="99072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210" name="WordArt 8"/>
          <p:cNvSpPr txBox="1"/>
          <p:nvPr/>
        </p:nvSpPr>
        <p:spPr>
          <a:xfrm>
            <a:off x="4343400" y="38098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 Black"/>
              </a:rPr>
              <a:t>4</a:t>
            </a:r>
            <a:endParaRPr b="1" lang="en-US" sz="49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 Black"/>
              <a:ea typeface="Arial Black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5410080" y="152280"/>
            <a:ext cx="2514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ccff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00ccff"/>
                </a:solidFill>
                <a:latin typeface="Comic Sans MS"/>
              </a:rPr>
              <a:t>(Page 2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ffff"/>
                </a:solidFill>
                <a:latin typeface="Comic Sans MS"/>
              </a:rPr>
              <a:t>Teacher A</a:t>
            </a:r>
            <a:br>
              <a:rPr sz="4100"/>
            </a:b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(Page 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160" y="15235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asks a ques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nk t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tudents raise ha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calls on one stude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One student answe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• 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eacher respond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14" name="Picture 4" descr="MC900335624[1]"/>
          <p:cNvPicPr/>
          <p:nvPr/>
        </p:nvPicPr>
        <p:blipFill>
          <a:blip r:embed="rId1"/>
          <a:stretch/>
        </p:blipFill>
        <p:spPr>
          <a:xfrm>
            <a:off x="4952880" y="3809880"/>
            <a:ext cx="3581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6:17:45Z</dcterms:created>
  <dc:creator>twesterberg</dc:creator>
  <dc:description/>
  <dc:language>en-US</dc:language>
  <cp:lastModifiedBy>Allison</cp:lastModifiedBy>
  <dcterms:modified xsi:type="dcterms:W3CDTF">2016-03-05T05:26:37Z</dcterms:modified>
  <cp:revision>435</cp:revision>
  <dc:subject/>
  <dc:title>Three Mistakes Made in Implementing Instructional Models</dc:title>
</cp:coreProperties>
</file>